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4C88-42D0-46A8-83AE-1B6E5AD05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65F6-5D6B-47F5-8107-9EDE6DC44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B324-BD04-47FA-816F-01C6F68B4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D28-A6BD-4956-A810-55F88CFC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8CA-55B7-432A-B950-FCB39383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583-9B07-4EBC-842D-843A9D37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975-70F8-4D58-97E7-FA495F1B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2EB-D2D6-477C-A8F5-A688A61A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1D7-89AD-4390-ACAE-9AEB7286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CAA-8A0E-4F9A-8313-39F71BB4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06A-FA59-4758-BF7F-8D35F6AC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8B3-24CD-452A-AFAA-E177A1DE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8C8-04C9-4F14-9E9A-C8D44153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A99-1EE2-4894-8708-34C38E5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9AE-91BF-46D3-A3B5-3741B14B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4B82-B1BA-4259-8404-F8F2BDA23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Routers-Cisco 3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394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A/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WIC-2A_S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2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WIC-2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B-S/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WIC-4B-S_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ES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WIC-4ESW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SHD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WIC-4SHDSL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WIC-4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4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WIC-4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8A/S-2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WIC-8A_S-232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WIC-ADSLI-B/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WIC-ADSLI-B_ST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-1A-OC3-P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NM-1A-OC3-POM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ME-WAE-502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NME-WAE-502-K9.emf"/>
          <p:cNvPicPr/>
          <p:nvPr/>
        </p:nvPicPr>
        <p:blipFill>
          <a:blip r:embed="rId1"/>
          <a:stretch/>
        </p:blipFill>
        <p:spPr>
          <a:xfrm>
            <a:off x="4352760" y="3562200"/>
            <a:ext cx="438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SM-Blank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D-ES2-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SM-D-ES2-48.emf"/>
          <p:cNvPicPr/>
          <p:nvPr/>
        </p:nvPicPr>
        <p:blipFill>
          <a:blip r:embed="rId1"/>
          <a:stretch/>
        </p:blipFill>
        <p:spPr>
          <a:xfrm>
            <a:off x="4102200" y="3559320"/>
            <a:ext cx="9396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ES3-24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SM-ES3-24P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NM-ADPT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SM-NM-ADPTR.emf"/>
          <p:cNvPicPr/>
          <p:nvPr/>
        </p:nvPicPr>
        <p:blipFill>
          <a:blip r:embed="rId1"/>
          <a:stretch/>
        </p:blipFill>
        <p:spPr>
          <a:xfrm>
            <a:off x="4330800" y="3562200"/>
            <a:ext cx="482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M-SRE-900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SM-SRE-900-K9.emf"/>
          <p:cNvPicPr/>
          <p:nvPr/>
        </p:nvPicPr>
        <p:blipFill>
          <a:blip r:embed="rId1"/>
          <a:stretch/>
        </p:blipFill>
        <p:spPr>
          <a:xfrm>
            <a:off x="4330800" y="3559320"/>
            <a:ext cx="482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IC2-4FX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VIC2-4FXO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WIC2-1MFT-T1/E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VWIC2-1MFT-T1_E1.emf"/>
          <p:cNvPicPr/>
          <p:nvPr/>
        </p:nvPicPr>
        <p:blipFill>
          <a:blip r:embed="rId1"/>
          <a:stretch/>
        </p:blipFill>
        <p:spPr>
          <a:xfrm>
            <a:off x="4473720" y="3584520"/>
            <a:ext cx="1965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392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392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392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25E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3925E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3945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/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3945_K9_Rear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945E/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3945E_K9_Front.emf"/>
          <p:cNvPicPr/>
          <p:nvPr/>
        </p:nvPicPr>
        <p:blipFill>
          <a:blip r:embed="rId1"/>
          <a:stretch/>
        </p:blipFill>
        <p:spPr>
          <a:xfrm>
            <a:off x="4033800" y="3460680"/>
            <a:ext cx="10764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7T17:46:37Z</dcterms:modified>
  <cp:revision>5</cp:revision>
  <dc:subject/>
  <dc:title>Title Slide</dc:title>
</cp:coreProperties>
</file>